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EC1-5BCE-4C1B-9F0C-6B1F46CA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F63-EC3F-4A51-A57A-A151477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42F-295F-42A9-8563-40192513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6CE-0E22-4FAC-8A4F-1B3D8738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EB90-BA90-4187-BCDC-9BE0107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0270-139F-4E7B-ABE2-3D58D6EF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87CE-4C6E-434B-8E14-2F4B425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7E8F-07C8-4FC8-A711-F764F38F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E60E-C06D-4413-9218-2F0610D1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7C1-7C97-4932-ADA4-43DC438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4F15-8BEA-4B67-9430-D18B58B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77-64A3-4D3D-A0B4-2DFABA4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CC8-8DDE-400E-B894-193C1E1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82F1-9326-4501-BBCA-F2E04D3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BE6F-5A65-4332-9D0A-53BDA63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59D5-5684-4753-8FB6-C572E304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5467-D942-4A8F-B0C4-6755AECA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3BE3-C84E-4569-B02A-02CF62A4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311D-C318-4C1C-84BA-2CC57D0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8301-116E-4EB6-BE39-3A0ED83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55F2-A21E-43CA-9B5D-FB1B9364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8E57-A45C-4EC7-8703-D0FF948C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E90-6734-4F16-90BF-E8691E1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054A-3A17-442B-862A-0E94BCD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6CDB-3B2E-4E5F-A49D-5FAF6C1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6BEF-4768-4A9F-B607-A12955D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F06F-8A6E-48EE-93C3-6C28444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EA74-DA36-467D-A39F-D1E24EDA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7EB8-750D-4FB8-A977-30275118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A949-2D44-4903-A73B-2F90D03E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7160-A7EA-4573-8BCF-1189CD41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6DC9-11DE-4180-93FB-3DD7529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1D52-7114-49C4-9CCB-FCD42C37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EE6-7892-4556-9251-D3A96CEF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05EB-088D-42BF-9221-A25F3021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3AC1-3C64-4285-9377-2C40683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D7A5-EFE9-4943-BA62-3F97017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EEA4-2DEE-48C6-8ECE-42D79CD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6380-508B-4DA2-8D57-9F2516E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B9E2-CF97-4C93-AC08-78C80E6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7E5C-843A-4AB9-B851-F8C83E5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81E9-86CB-4DB6-8282-37B399D5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1BE7-E7A3-485B-A291-D209BD8B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30B3-5691-4884-9383-871EE412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5E8-3A60-4BCA-ABFB-BDF6789F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68DC-2C2B-439D-9310-1F59EB5A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BA44-4938-4EDA-A446-F61F336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3818-F73E-4F0E-9C6E-7BC72460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45EC-DED8-430A-88A5-9A11815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97E5-5286-48FA-AC65-F8444B9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2565-E987-4FDC-8362-A63CBF4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AE51F-6B96-47D2-AE37-2EDBF97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0CA7-8B29-4919-8BA2-953E520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F674-D6D1-4AF8-AACF-7103F5B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E3A0-51E0-45B9-A827-DA845E17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654-CE59-412F-8309-8E9A3D39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C4B0-B882-4B79-879B-96B1530A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C7775-E066-4093-960D-D8AD535B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D3AE-636F-4B62-A52D-A8CB0AB5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6F61-7D55-4BBF-982F-238A996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7282-1313-4D76-A46C-C19F59B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D2DA-2632-417E-90ED-F26283C2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A808-43AF-4048-B123-7B670E5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C78E-5E88-4738-93DB-DD539BE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0575-D39E-4BE5-9C56-DF210C3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76AC-D43A-46C9-A4D7-BEA6558B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741-D52C-48B6-99A1-84ADA66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249AB-00B4-42CA-ADDC-39CFFF4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B03C-C40E-4657-AE60-EAE13B74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1BBC-BF48-451F-9A73-BBFC1798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50FF-6476-493C-8129-258B0B73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6B12-AE27-4837-8E11-290D96E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5827-79AF-4A52-A519-5992CD93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D5F7-59C1-422B-9511-9CF7DE65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67DE-6DB4-46CC-BD64-2C1502DE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F9CC-E291-462D-8754-9542EC8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6217-1A89-4646-881D-BF94C00A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654-CC93-46CE-8F44-988C2ED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569E-DCE9-4020-8661-56025CC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421F9-B781-4973-9DAC-8DC5088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ADBB-8688-40F4-B94B-6517875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1D14-391A-4656-A2E8-94D15F73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81EE5-C0B4-4BB2-954B-1E88164F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82C27-C969-4BCB-AC71-94CCCEA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2EC23-7625-412F-9376-127EA81D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2057-B5D8-42C8-BF3F-22E49311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1D2A3-24B2-4A73-9E17-FC77625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0522D-A611-4557-AD25-BEFC739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271-1754-41A9-833A-A9A120D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387F-70C5-4E9F-B2EC-CCD738D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F704-1542-4CE5-A5FB-CC8A21C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8E43E-390E-4458-B2D2-0504EEB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65BE-5171-464D-BE75-9B73171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A719-2072-49BF-A599-AA162E3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2895-D803-453A-9B08-1012F57A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085FF-6351-4AD9-BD2A-6BB86F22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1A8-9171-48BC-A558-93CB868B08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A185-A25A-4B09-A02C-E9DB0ED0940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0591-C697-4A99-8D89-BB5D239D68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8AB2-35ED-49AC-BF9D-39A50036DF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3C1A-F509-4DAB-AFFC-566CC88C72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0EB6-B844-44F7-8148-18272BF676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7504-78BC-4CF2-B569-AAA8C2887D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A4C-22E3-469E-B3A2-227ABD29855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59436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6"/>
          <p:cNvCxnSpPr/>
          <p:nvPr/>
        </p:nvCxnSpPr>
        <p:spPr>
          <a:xfrm>
            <a:off x="2361240" y="1905120"/>
            <a:ext cx="2515320" cy="2591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15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85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89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5943600" cy="4109760"/>
          </a:xfrm>
          <a:prstGeom prst="rect">
            <a:avLst/>
          </a:prstGeom>
          <a:ln w="0">
            <a:noFill/>
          </a:ln>
        </p:spPr>
      </p:pic>
      <p:cxnSp>
        <p:nvCxnSpPr>
          <p:cNvPr id="397" name="Straight Arrow Connector 5"/>
          <p:cNvCxnSpPr/>
          <p:nvPr/>
        </p:nvCxnSpPr>
        <p:spPr>
          <a:xfrm>
            <a:off x="2133720" y="1828800"/>
            <a:ext cx="45792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1447920" y="2747880"/>
            <a:ext cx="59436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0-08-29T19:36:48Z</dcterms:modified>
  <cp:revision>1</cp:revision>
  <dc:subject/>
  <dc:title>Wikispaces Accounts</dc:title>
</cp:coreProperties>
</file>